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20F-BC97-4172-A85A-401EC936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A2F-BBBA-44EA-8D85-3782C23E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FCF-60B9-4DF2-B9E5-C22556EA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CFD-B7B1-4166-8983-3A4ED8F5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6623-0D05-420D-89BA-1BD04A4D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D014-CD8C-410B-BC30-D0D7B2B4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AB88-7A4F-4AA4-831B-9D0E1F53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7ABD-4682-4F7D-953D-620DED02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993C-2B3C-4266-8191-BBC2500B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4E66-A08C-45C1-A7AE-A01D5DAB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1035-7310-4D5F-B2A6-34E9CE71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D8D-FF1E-4F33-9122-2C8893D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FD81-1FBB-4507-8B5A-9B0AF5B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C5AA-EB38-4837-964A-BE7F05F4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3F66-0E5D-463A-B1C8-8BDF9979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54A5-A668-475E-9BDF-03728DFE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5090-0589-40AE-9198-2F2D7843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E2D-15C1-41AD-9E76-81DD5D34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10E-6C29-433E-874B-6E5702E3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0D6-295A-4570-934E-F3F9B5AB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658-76EB-4EE0-9532-F3366E1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DE0-AB89-4BF0-B40D-74E48EF8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7D5-5CE9-4440-A53C-DF688531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33E-EDBD-43AD-B666-B69E66ED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18D6-7D02-4078-A5C3-2EE0B55603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2F90-804D-497E-8588-15F40D81FA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рагијске грозниц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Audio 1" descr=""/>
          <p:cNvPicPr/>
          <p:nvPr/>
        </p:nvPicPr>
        <p:blipFill>
          <a:blip r:embed="rId1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рагијска грозница са бубрежним синдромом (ХГСБ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ци су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antaan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ou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av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(Београд) и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um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рус – породица </a:t>
            </a:r>
            <a:r>
              <a:rPr b="0" i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nyavir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гоисточна Азија (Кина), источна Европа, Скандинав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и резервоари инфекције су глодари (мишеви, пацов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ираторни пут је најчешћи начин трансмисије вируса на ч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ментарни и директан пут заражавања су ређ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 се креће од 7-36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Audio 6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генез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доспева у крвоток где се моше детектовати у току фебрилне фаз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репликација вируса се дешава у епителним ћелијама слузница а потом у ендотелу крвних су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 брзо након почетка болести могу се наћи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M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титела у високом тит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 до ослобађања цитокина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Т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лфа интерферон г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куларна дисфункција (смањење периферене васкуларне резистенције и повећање пропустљив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волемијски шок, ДИК, некроза тубу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Audio 3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 сл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брилн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тензивн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уријск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уријск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валесцентна 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Audio 6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фаза (фебрилна фаза) карактерише се наглим почетком високе темперетуре праћене дрхтавицом, фотофобијом, смањењем оштрине вида и јаким боловима у крстима, симптомима трахеобронхитис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м прегледом се налази хиперемија лица која се шири на предео врата, горњег дела грудног коша и бут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кција коњунктива, петехије на непцу и аксиларној регији, као периорбитални едем су од велике помоћи за рано постављање дијагнозе у ендемским подручји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тивна брадикард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Audio 1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Клиничка слик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Хипотензивна фаза траје од неколико до 48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и карактерише се падом крвног притиска и понекад развојем шо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Релативна брадикардија се смењује са тахикардиј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Хематокрит расте, настаје леукоцитоза и тромбоцитопен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игуријска фаза траје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3-10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на, долази до поремећаја протока крви бубрега због локалних и системских поремећаја у циркулацији – тубуларна некроза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убрежна дисфункција, што се манифестује хематуријом, протеинуријом,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лигуријом и азотемиј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Audio 3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урична фаза представља почетак клиничког оздрављења и брзог побољшања бубрежне финкциј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ше се полиуријом, јаком жеђи и нормализацијом притиск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тна фаза - траје 4-12 недељ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авак је већином потпун, сем код оних где су оштећења бубрега била знат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Audio 2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 ХГС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 терапија – РИБАВИРИН (доводи до прекидања виремије, скраћења трајања болести, смањења степена хеморагија и бубрежних оштећења)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оративна терапија (кристалоидни раствори, хумани серумски албумини и вазопресорни леков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ћење крвног притиска, диурезе, броја тромбоцита, као и вредности уреје, креатинина и електролит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птна дијализ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Audio 5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АНТАВИРУСНИ ПУЛМОНАЛНИ СИНДР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ромални стадијум траје 3-4 дан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диопулмонална фаз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ја, тахипноја, хипоксемија и радиолошки знаци плућног едема  и респираторна инсуфицијенциј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током првих неколико сати- оксигенотерапија, интубација и вештачка вентилација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тензија и шок- инфузиона терапија и пресорни лекови</a:t>
            </a:r>
            <a:r>
              <a:rPr b="0" lang="sr-R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Audio 3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878440" cy="4896000"/>
          </a:xfrm>
          <a:prstGeom prst="rect">
            <a:avLst/>
          </a:prstGeom>
          <a:ln w="0">
            <a:noFill/>
          </a:ln>
        </p:spPr>
      </p:pic>
      <p:pic>
        <p:nvPicPr>
          <p:cNvPr id="213" name="Audio 2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128000" cy="4608720"/>
          </a:xfrm>
          <a:prstGeom prst="rect">
            <a:avLst/>
          </a:prstGeom>
          <a:ln w="0">
            <a:noFill/>
          </a:ln>
        </p:spPr>
      </p:pic>
      <p:pic>
        <p:nvPicPr>
          <p:cNvPr id="215" name="Audio 1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 хеморагијке грознице (ВХГ) представљају групу разноврсних болести које карактерише фебрилност и појава хеморагијског синдрома који је одраз генерализованог  оштећења крвних су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vivirusi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та грозница, Ден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irovirus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го-кримска грозни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tan virus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рагијска грозница са бубрежним синдромо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navirus (Lassa-grozni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ovirusi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ола и Марбуршка грозни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Audio 6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њунктивалне суфуз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754eme75431a"/>
          <p:cNvPicPr/>
          <p:nvPr/>
        </p:nvPicPr>
        <p:blipFill>
          <a:blip r:embed="rId1"/>
          <a:stretch/>
        </p:blipFill>
        <p:spPr>
          <a:xfrm>
            <a:off x="1835280" y="1773360"/>
            <a:ext cx="5761080" cy="4319640"/>
          </a:xfrm>
          <a:prstGeom prst="rect">
            <a:avLst/>
          </a:prstGeom>
          <a:ln w="0">
            <a:noFill/>
          </a:ln>
        </p:spPr>
      </p:pic>
      <p:pic>
        <p:nvPicPr>
          <p:cNvPr id="218" name="Audio 1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перемија лица и вратног д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75375330-14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5410080"/>
          </a:xfrm>
          <a:prstGeom prst="rect">
            <a:avLst/>
          </a:prstGeom>
          <a:ln w="0">
            <a:noFill/>
          </a:ln>
        </p:spPr>
      </p:pic>
      <p:pic>
        <p:nvPicPr>
          <p:cNvPr id="221" name="Audio 6" descr=""/>
          <p:cNvPicPr/>
          <p:nvPr/>
        </p:nvPicPr>
        <p:blipFill>
          <a:blip r:embed="rId2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НЕ ХЕМОРАГИЈСКЕ ГРОЗ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ликују се разноврсношћу клиничких манифестација, спорадичним и сезонским јављањ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а клиничка слика са високим леталитетом сврстава их у нарочито опасне инфекције а могућност интерхуманог преношења појединих ВХГ из аутохтоних жаришта на друге територије налаже спровођење посебних превентивних м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Audio 10" descr=""/>
          <p:cNvPicPr/>
          <p:nvPr/>
        </p:nvPicPr>
        <p:blipFill>
          <a:blip r:embed="rId3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09840"/>
            <a:ext cx="8229600" cy="46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к је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irovir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ји припада породици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nyaviri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рика, Средњи исток, западна Кина, Балка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пељи имају значајну улогу у одржавању и преношењу виру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 се сезонски (пролеће–јесен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 је и интерхумана трансмисија вируса-   контакт са инфицираном крвљу, секретима и екскретима оболел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 2-12 дана (3-6 дан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мска-Конго хеморагијс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озница (ККХ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udio 5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мска-Конго хеморагијс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озница (ККХ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продора вируса у организам настаје виремија и хематогена дисеминац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 вируса се одвија у ендотелу капилара, што доводи до фокалне некрозе, сепарације чврстих спојева и њиховог одвајања од базалне мембра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 до стварања имуних комплекса који доводе до оштећења капилара и повећане пропустљивост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на пропустљивост доводи до екстравазације воде, електролита и плазм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 крајњи исход ових патофизиолошких механизама настаје дисеминована интраваскуларна коагулопатија, хеморагије и шо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Audio 3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840" y="2599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ККХ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хеморагични стадијум - симптоми и знаци токсично-инфективног синдром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почиње нагло високом темперетуром, интензивном главобољом, боловима у мишићима слабинске регије, боловима у зглобовима, боловима у абдомену, муком и повраћање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ом се уочава хиперемија ждрела, коњунктива, енантем букалне слузнице као и хиперемија лица, врата и горњег дела грудног кош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Audio 2" descr=""/>
          <p:cNvPicPr/>
          <p:nvPr/>
        </p:nvPicPr>
        <p:blipFill>
          <a:blip r:embed="rId4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 ККХ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рагични синдром- настаје између 3 и 5-ог да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 се петехије и хематоми, е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озе или хеморагични раш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даљем току настају крварења на слузницама усне дупље (петехије на ждрелу и букалној слузници, крварење из десн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 унутрашњег крварења (мелена, хемоптизије, хемоптое, метрорагиј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, леукопенија и тромбоцитопенија, некроза хепатоцита, хиповолемијски ш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тни пери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Audio 2" descr=""/>
          <p:cNvPicPr/>
          <p:nvPr/>
        </p:nvPicPr>
        <p:blipFill>
          <a:blip r:embed="rId7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јагноза ККХГ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 вируса на култури ткив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специфичних антитела 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ла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- 10 дана) 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ли тес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ороструки пораст титра антител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ласе у парном серум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тешко оболелих због масивне виремије и супресије функциј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имфоцита некада се антитела не могу детектова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Audio 4" descr=""/>
          <p:cNvPicPr/>
          <p:nvPr/>
        </p:nvPicPr>
        <p:blipFill>
          <a:blip r:embed="rId5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 ККХ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кција течности и електрол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 пуне крви, свеже плазме и тромбоц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развоја шока дати кортикостерои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 терапија –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бавирин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подлеже обавезној пријави у случају сумње, оболевања или смртног исх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Audio 2" descr=""/>
          <p:cNvPicPr/>
          <p:nvPr/>
        </p:nvPicPr>
        <p:blipFill>
          <a:blip r:embed="rId6"/>
          <a:stretch/>
        </p:blipFill>
        <p:spPr>
          <a:xfrm>
            <a:off x="8521560" y="6235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3:22:17Z</dcterms:created>
  <dc:creator>Info</dc:creator>
  <dc:description/>
  <dc:language>en-US</dc:language>
  <cp:lastModifiedBy>Biljana</cp:lastModifiedBy>
  <dcterms:modified xsi:type="dcterms:W3CDTF">2020-09-19T15:51:21Z</dcterms:modified>
  <cp:revision>47</cp:revision>
  <dc:subject/>
  <dc:title>Streptokokne infekcije</dc:title>
</cp:coreProperties>
</file>